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F8C8-AE0F-4170-9F10-B930BACBE1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7333-0891-4B53-93C2-C9BD6C59CFB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156-6B91-43A8-B869-0094D2B6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E3D-CD97-4590-9225-5B386370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9486-8926-4138-886F-51741B57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7B8-97EB-42FB-BC34-116D76E8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FC1D-4E13-4764-8216-CAB0EE1E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E649-37EC-48C6-AEA6-A2637C57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94B3-D359-42F7-86C6-3BCD7249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1763-2227-4A26-9A89-05DE9182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709A-2D1A-4FF2-8ABB-738D4D84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EF5B-6A5F-4D0A-AA8D-C5D4217D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2311-E44B-4A9A-95E5-26DEE6B7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69C-5774-429F-AE95-9ABD4FDF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52CD-F5B4-42A3-859C-72E4C028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97DA-9B3A-4F84-AED9-BBF203E7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DB24-8312-4561-9D81-9F4E4B81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221C-C261-43AB-95DB-5EE5E12F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720A-2D32-498F-8BA7-7369C899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9BB-BC72-427D-B282-0B8E4845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7C9-EA03-4AFE-BEE4-1CE8E6B3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F86-9D76-4920-8EDC-529961B6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1510-EC2F-4038-8E1C-46DD9159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497-D4A0-4720-85DD-CDDE7DBE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AEF-F2C1-4A11-8F4F-4F7BCBD9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4C0-08AD-454B-BBF6-6F80E6E1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9124-F48E-4275-AAB2-81863912D2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255F-F88D-416C-9EB9-2E98590476D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35280" y="476280"/>
            <a:ext cx="228600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Clowniaid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72240" y="1635120"/>
            <a:ext cx="785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all 26 clown chwythu lan 26 balwn mewn 26 munu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awl clown sydd eu hangen i chwythu lan 78 bal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ewn 78 munud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j0198383"/>
          <p:cNvPicPr/>
          <p:nvPr/>
        </p:nvPicPr>
        <p:blipFill>
          <a:blip r:embed="rId1"/>
          <a:stretch/>
        </p:blipFill>
        <p:spPr>
          <a:xfrm>
            <a:off x="5435640" y="3141720"/>
            <a:ext cx="23670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9:11:10Z</dcterms:created>
  <dc:creator>Carwyn</dc:creator>
  <dc:description/>
  <dc:language>en-US</dc:language>
  <cp:lastModifiedBy>Carwyn</cp:lastModifiedBy>
  <dcterms:modified xsi:type="dcterms:W3CDTF">2009-11-29T14:33:59Z</dcterms:modified>
  <cp:revision>2</cp:revision>
  <dc:subject/>
  <dc:title>Clowniaid</dc:title>
</cp:coreProperties>
</file>